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457-D979-4E20-AE1C-95A60526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669-E359-495C-9C5A-77E4E1B2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48E-84E5-41AE-9619-9AE4D470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253-EE08-46C4-921C-AFD0FBE6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FC721-2BE2-4A3A-9910-885FE5E7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02534-757F-42CF-A2FA-71CE25E1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ADFBB-23BF-48CD-A9BE-9E678945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C5D6E-8CEA-4596-BB8A-64368C35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06543-083C-4A4B-804A-296C24E6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9186F-9F31-47E8-A1F8-B20D5F6E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980F9-41D0-4A0E-959C-7AEFA636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5A9-4A0B-46F5-865F-083B6FB9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93E7D-2ED6-448D-BC72-C9BEED58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E16C8-24A3-4F10-B090-E76D1207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17829-CBE2-4CF0-8CEB-864A0A62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841DD-6E52-4632-8E89-648886A1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9EE3E-AAEF-4703-A365-CD375AA0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F44CD-939E-4B83-AD81-B80A639F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0D13-2495-4932-A307-738F8774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D253E-E53E-42D7-8EBC-41935405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E5F6-D068-4BDF-8C41-16E536EC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80E2B-2552-4004-B0B1-BCAAA7DD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9D5-F6D3-4489-8D06-7FD85698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6F05-AAF3-4848-B703-8CAD2E72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0147-370F-431D-BCD9-A7497F96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41F5-7CF9-4012-A5BB-7131B3D0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16765-786A-46EA-A99E-36DA5119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3FCB-D5D0-4087-A8CD-0545AA46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B77D-7A2B-43EF-B3C1-4431865D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5FC3-1B6B-4794-B5F7-3147E221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616-1FAC-406F-BC10-9D70AE1C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29B-BD4E-4E0B-B6B2-1D448BD3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A10-1CFF-4755-ABDD-2D9D4001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987-F19A-4110-A28D-29964FD7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7B9-F3BD-4DF6-877E-4C72DB9D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B44-CF28-4AFF-8F8C-B0516AF2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0E87-8E85-4993-86F8-EF56C999134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CD7D-8610-47A0-BE25-7DB3AF77B65A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8C30-8DAD-4D9B-843C-B663AABE703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en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least one double bond present in the main ch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l formula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 a trigonal planar sha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te: more on shapes in the next uni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 a 120° angle between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ed “unsaturated” because other hydrogen atoms can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ways end in “~en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let’s draw 1-butyne and 2-butyn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buty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94" name="Object 6"/>
          <p:cNvGraphicFramePr/>
          <p:nvPr/>
        </p:nvGraphicFramePr>
        <p:xfrm>
          <a:off x="324000" y="3573360"/>
          <a:ext cx="4130640" cy="16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573360"/>
                    <a:ext cx="413064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7"/>
          <p:cNvGraphicFramePr/>
          <p:nvPr/>
        </p:nvGraphicFramePr>
        <p:xfrm>
          <a:off x="3924360" y="4076640"/>
          <a:ext cx="4913280" cy="3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491328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try a structure with more than one triple bond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,4-hexadiy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324000" y="3860640"/>
          <a:ext cx="844380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860640"/>
                    <a:ext cx="84438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put everything together and nam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-ethyl-4,5-dimethyl 2,6-octadiy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1476360" y="2708280"/>
          <a:ext cx="662940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08280"/>
                    <a:ext cx="662940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dentify and name the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longest carbon chain that CONTAINS THE DOUBLE BOND(S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umber the carbons in the chain so that the two carbons involved in the double bond have the lowest possible number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If the double bond is equidistant from both ends, number the chain so that the substituent(s) have the lowest possibly number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llow same rules for identifying and naming prefix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naming this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ethyl -1-pent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68" name="Object 3"/>
          <p:cNvGraphicFramePr/>
          <p:nvPr/>
        </p:nvGraphicFramePr>
        <p:xfrm>
          <a:off x="1554120" y="3068640"/>
          <a:ext cx="627372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3068640"/>
                    <a:ext cx="627372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let’s draw 1-butene and 2-buten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but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but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958680" y="3141720"/>
          <a:ext cx="315756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8680" y="3141720"/>
                    <a:ext cx="31575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6"/>
          <p:cNvGraphicFramePr/>
          <p:nvPr/>
        </p:nvGraphicFramePr>
        <p:xfrm>
          <a:off x="4861080" y="2924280"/>
          <a:ext cx="3348000" cy="25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1080" y="2924280"/>
                    <a:ext cx="33480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try a structure with more than one double bond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,3-pentadiene or penta-1,3-di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2050920" y="3068640"/>
          <a:ext cx="4886280" cy="27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068640"/>
                    <a:ext cx="488628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put everything together and nam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-ethyl-3,6-dimethyl 1,2,4-octatri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82" name="Object 3"/>
          <p:cNvGraphicFramePr/>
          <p:nvPr/>
        </p:nvGraphicFramePr>
        <p:xfrm>
          <a:off x="863640" y="2781360"/>
          <a:ext cx="675792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2781360"/>
                    <a:ext cx="675792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n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least one triple bond present in the main ch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l formula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n-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 a linear sha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te: more on shapes in the next uni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 a 180° angle between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ed “unsaturated” because other hydrogen atoms can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ways end in “~yn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dentify and name the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longest carbon chain that CONTAINS THE TRIPLE BOND(S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umber the carbons in the chain so that the two carbons involved in the triple bond have the lowest possible number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If the triple bond is equidistant from both ends, number the chain so that the substituent(s) have the lowest possibly number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llow same rules for identifying and naming prefix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naming this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,4-dimethyl 1-hexy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2247840" y="2349360"/>
          <a:ext cx="606924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7840" y="2349360"/>
                    <a:ext cx="606924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9:49:02Z</dcterms:created>
  <dc:creator>C. Shopman</dc:creator>
  <dc:description/>
  <dc:language>en-US</dc:language>
  <cp:lastModifiedBy>Rola Wansa   </cp:lastModifiedBy>
  <dcterms:modified xsi:type="dcterms:W3CDTF">2017-09-12T17:19:07Z</dcterms:modified>
  <cp:revision>60</cp:revision>
  <dc:subject/>
  <dc:title>Intro to organic chemistry (orgo)</dc:title>
</cp:coreProperties>
</file>